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D398-3611-4314-BDD1-3FB9C5E9B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5B1B-EE1C-4E94-A7FF-45F7D10C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3B56-2043-4D6B-884E-FBA96AAD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616-107A-4022-A4C5-5C43D450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8B4-08AC-4D62-8B5D-52B3F4E8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0617-D2DF-4241-AFB8-E8388A31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4DC6-6096-4BC3-812F-C66B9CB8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955B-47EE-4460-8307-174EDFC1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51FF-92B5-41D2-87C3-58A266CE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5752-F61A-4DBC-B23C-E9D78DDC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5DD4-6B23-4896-8E90-FF2D19C7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4A72-C628-4E73-A0EB-987E055D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BA48-024E-4FD2-B3DD-89C3FE7F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C822-28F5-42CA-BB2D-E47398AF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631B-C875-4A1A-B8BF-839BBF5E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E742-D710-428C-9EB3-ADEA7646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A874-647A-49F8-BB94-4A7EF66C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59D3-C1F8-42F6-AF4D-BD44E171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A2C0-0961-4962-8459-F7EA58D7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E63-0FEC-40D6-9062-6BFDA5D9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3D07-2926-4563-B1D8-D3166720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915-1D0D-43A6-A0EE-C665373B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34D-2A6C-414C-A7AC-CB4EE350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898F-0D00-4EC5-A3C4-DD8DC2A3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FD7-DADE-4E19-A79D-631B452F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59FF-8232-408D-8E21-24D2C1065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C2E3-0B34-48BF-A1EF-E28B3F54570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analytics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adsens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eb Programming Step by Step</a:t>
            </a:r>
            <a:br>
              <a:rPr sz="4000"/>
            </a:br>
            <a:br>
              <a:rPr sz="20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13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aking a Website Liv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 Loddeng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exloddengaard@gmail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ttp://www.alexloddengaard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94E9-8DB2-49BD-A916-BBDC8904A0B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ivac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upfront with your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your privacy policy in a “Terms”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book’s “Terms” page is ~8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 had a big problem with this rec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us screenshot from Face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4809960"/>
            <a:ext cx="8534160" cy="98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BEF-6FCA-4940-AFDA-152EDB9452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You got a good ide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 and evaluate your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05E9-E677-4CDA-B134-FEA65DA00D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Analytics (GA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up here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google.com/analy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just install the JavaScript they give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 gives you insane statistics about your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90920" y="3962520"/>
            <a:ext cx="4190760" cy="25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37A0-0D92-47BD-98F8-8578C4497DA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venue Mode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ome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0E5E-0B42-48AC-87FF-119CAAE112E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dvertisements on Your Si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Ad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displays relevant 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d per click (usually ~$.10-3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izable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ool with a website can install the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sign up and install the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google.com/ad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371600" y="5675400"/>
            <a:ext cx="6599160" cy="87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A0C-1C69-45BB-918B-A43F5DB284B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AdSense 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09480" y="2103480"/>
            <a:ext cx="8229600" cy="40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EB4-5F5D-4D7A-935D-EDAD5A347A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ferra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 owner gets commission from referred s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-commerce sites offe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zon.com, Bestbuy.com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ion ranges between 5-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“Join Associates” on Amazo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5BA-6A4D-4BCF-BBC1-A8563CE6B82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Referral 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9360" y="2438280"/>
            <a:ext cx="8712360" cy="311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857-0C99-45B5-A8F2-B559A2FC565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-Marke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your site and get users on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B809-1F46-44D6-9EF9-E23C0BCF82B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oogle AdWor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oduce ads that show up as Google AdSense ads on relevant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s can be purchased that make you the “sponsored link” on the Google search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per Click (CPC ~$.10-3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adwords.goog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6320" y="5486400"/>
            <a:ext cx="8915400" cy="13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C6E-6655-4BAB-9170-F97D88EFDE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Cellarspo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 for wine connoiss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e notes, collections, friend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ote the whole site 3 times in a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P at first, then two rewrites in JSP (Ja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my first money-making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in your shoes when I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t the idea from my Dad; I don’t like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CEE-C443-4A80-8179-62D348A8417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member those stupid &lt;meta&gt; tag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really uses those,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earn about SEO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3BA-7313-4AF9-B68A-45B6785D9C0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ut firs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Google, how would you determine if one website was better than an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determine the most popular person by what they say about themsel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639-2552-438E-9C39-9D02DBD2B6F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arch Engine Optimization (SEO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y your site performs in search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more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Page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No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Search_engine_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the appropriate &lt;meta&gt;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, keyword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descriptive &lt;titl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Amazon’s title -- it’s h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5D0-62A0-4CD9-8315-E4F5C67D254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O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each search engine’s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they specify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oogle.com/support/webmaster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mpor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eople to link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bloggers to blog abou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gle likes blog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AF1B-E232-49C2-ABE8-6A8EFB58FC1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PageRan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s are websites, arrows are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4648320" cy="37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2C1-77A2-4FD2-B5DF-0903D303980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O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your website will be keyworded based on the anchor text of incoming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eyworded by &lt;title&gt;, &lt;meta&gt; and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0" r="35833" b="0"/>
          <a:stretch/>
        </p:blipFill>
        <p:spPr>
          <a:xfrm>
            <a:off x="0" y="5105520"/>
            <a:ext cx="9144000" cy="1368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54080" y="46483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er of Trulia.c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175A-D98F-4171-B47A-DA56B9913C2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Bom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Google got smart, they keyworded mostly by ancho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gers linked to whitehouse.gov/president with anchor text “miserable fail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ing “miserable failure” showed whitehouse.gov/president as the first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has since fixed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Google_bom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8B51-69A4-41EE-BC35-B6473F01806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Useful SEO too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Webmast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google.com/webma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information about your site in Google’s search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71600" y="4044960"/>
            <a:ext cx="6248520" cy="266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F5F-9777-4D81-8840-05694C68F4C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your own site is an indefinite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arspo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make much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in every single one of my interviews at Google, Redfin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prominently on my re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a great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insanely exci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768-CBAE-4BD1-9B59-73CC605AC97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arsp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web develop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E82-63D1-430A-B773-87AB3508D87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f you want mor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your own .com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to make some mon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to take web development to the next lev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D1F2-7349-4270-861A-10DB28D911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gal Inf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get shutdown or s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C420-D0F1-4E2A-A943-1C7C0828B15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tellectual Proper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 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ownership of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, review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mark 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exclusive usage of a logo, name, or phr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ownership and exclusive usage of a product, algorithm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866E-1173-43C5-8722-6277D7C5507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pyrigh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violat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someone els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snipp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the license agreement says you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 data on any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s don’t need to be spe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im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DB7-AF17-4F8F-95D3-4B22BA375CD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 Yourself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n individual running a website, your private assets are not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your private assets by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ing a  Limited Liability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ing incorpo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on the state you operat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ecstate.wa.gov/corp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bably isn’t necessary unless you’re doing something that might be borderline il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2CB-6828-4535-9757-7E59C7F0506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ftware Developmen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good code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make improving / fixing your code MUCH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build a team of developers, because multiple heads are better tha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CSE 4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F29-A406-4D99-8D9D-6BD19818C35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Tru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ap between a legitimate website and a personal project is small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he beauty of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you are capable of making something that people wil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arsp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book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themilk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igslis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agand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ebsites that started off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A46-EECA-46F6-A51A-7766CF7A36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xt Level is Hos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a domai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martystepp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web space from a hos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provide you with PHP, MySQL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buy a domain name and web space from the sam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eamhos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add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hos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gsix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71C-0E61-4243-88F8-02EF2D4F1E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sting Gotcha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your host provides the services you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hosts only provide PHP + 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nly provide Ruby on Rail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top shops are conven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the domain and web space from the sam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eamhost is awe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2DD0-031B-4B9B-9574-AAE11AFAD3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K, you’re liv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ine your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D388-83B4-46A3-AC23-7ACADFB095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earc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ep to refinement is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will tell you more about the problem you’re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you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us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by interviewing, surveying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y opinion, Cellarspot was solving a fak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research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know enough about wine connoiss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increases the likeliness of your website being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more fun when your website is used :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EEC9-DEA0-4CF6-86EE-72ABC05C07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Focu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focus was on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make a website with awesome functionality; the look is less importan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focus was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have focused on a core feature set with an attractive and grabbing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e connoisseurs need attractive web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I done research upfront I would have known this ear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DAF3-7D85-4F99-AE16-54A17E5D84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1:17:58Z</dcterms:created>
  <dc:creator>Office 2004 Test Drive User</dc:creator>
  <dc:description/>
  <dc:language>en-US</dc:language>
  <cp:lastModifiedBy>Marty Stepp</cp:lastModifiedBy>
  <dcterms:modified xsi:type="dcterms:W3CDTF">2009-07-22T03:06:09Z</dcterms:modified>
  <cp:revision>153</cp:revision>
  <dc:subject/>
  <dc:title>PowerPoint Presentation</dc:title>
</cp:coreProperties>
</file>