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2489-74B1-4B88-9EF9-662B4AADD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35A-0656-4F90-A91F-A82C0F96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C79-BB37-4C1B-BD70-2BB8CF09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1B6-E1FB-4BA3-AE68-DA745598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516-01A6-455F-ADD3-ED151249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C002-EF69-480D-B25F-28B01FD8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DC65-E689-41D1-9E31-2111D7FB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1356-EC3C-4280-9F54-0FA7EF51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F322-7507-4C10-9B22-BE0D3496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4023-DB64-4D79-BCFD-6A8FF9F5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9D81-46B3-4073-9463-F4BF0755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0088-DBC7-47B3-923E-D8082A13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B32-B6ED-45B0-B217-482165C3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B765-412E-400F-913C-22C9CAC6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4031-DE25-4E24-BE51-430C889C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CA09-EF23-4F3E-B493-CD055B57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3AC8-9217-424E-806D-1903BE43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A2AB-EA5A-4513-A860-D22A0729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468-C055-4362-8C04-97B4B6A5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3DC-FE37-43AB-9708-C9913AAA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B6B-0416-43CC-B7DA-1ABE7A6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E93-1F4C-42DE-A8B4-45C6B17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0BF-2CB3-47D2-8579-7880D4B3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DF6-B2F0-4EF7-8542-44D6DF3B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914-758A-455F-BAF0-17E6FF0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9C0D-E94F-4D5B-AA1F-AA9AC1BF2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331A-E0D2-43AD-B5F9-5AB45488497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adsens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arspot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dwords.google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ecstate.wa.gov/corps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shington.edu/computing/web/publishing/student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king a Websit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Loddeng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exloddengaard@gmail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ttp://www.alexloddengaard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28C8-7F05-47EA-8B91-621316AB76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K, you’r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2D4B-0B96-45F3-9139-70127C8D9E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to refinement 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will tell you more about the problem you’re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y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by interviewing, survey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opinion, Cellarspot was solving a fak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resear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know enough about wine connoi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creases the likeliness of your websit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ore fun when your website is used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9F3-AE3D-4C24-9BC4-5EB2247501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Focu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on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make a website with awesome functionality; the look is less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have focused on a core feature set with an attractive and grabbing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 connoisseurs need attractive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 done research upfront I would have known thi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EB3-6C10-4B18-8ED0-62970D5FAA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front with you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your privacy policy in a “Terms”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Terms” page is ~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had a big problem with this rec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screenshot from Fac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809960"/>
            <a:ext cx="8534160" cy="9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DDF-89B2-49D9-85E5-90CBF5E02E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 got a good id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and evaluat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A937-FEC1-4FC8-8E7A-D5BF36E8AF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ve you looked at the 190m sourc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ut Marty knows more about you than you think … he’s got 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9067680" cy="12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E3E-3CE0-492D-B051-389191F184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Analytics (GA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her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just install the JavaScript they gi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 gives you insane statistics about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41907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12D-0B0C-4A4B-8BFB-CE4A5558B9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enue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om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5D92-DE82-4083-8074-2E5C900AF5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on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isplays relevant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click (usually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ool with a website can install the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ign up and install the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oogle.com/ad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5675400"/>
            <a:ext cx="659916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23A-02F2-4318-B3D5-A0C1F2202B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AdSens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82296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342-2CE7-4C26-8E49-F4A336456C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a CSE 143/190L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Manager at Red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ellar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5715000" cy="24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081-FCB9-4674-B14A-73778FB30E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err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owner gets commission from referred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-commerce sites off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, Bestbuy.co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ranges betwee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Join Associates” on 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A07-858C-4428-8164-8A6F854FCF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Referral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9360" y="2438280"/>
            <a:ext cx="8712360" cy="31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631-9B3A-48DB-9EB9-DE395C6981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-Mark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your site and get users on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237E-64E6-4164-91E9-13C735AD7A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ogle AdWor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oduce ads that show up as Google AdSense ads on relevant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 can be purchased that make you the “sponsored link” on the Google search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Click (CPC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dwords.goog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320" y="5486400"/>
            <a:ext cx="89154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2CB-4CA4-471A-8C52-7A1A083B64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 those stupid &lt;meta&gt; tag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really uses tho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arn about SE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806-14DB-4F49-A36F-47C589F29F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t fir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Google, how would you determine if one website was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determine the most popular person by what they say about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F33-6184-4513-95EA-85F05D1EB4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rch Engine Optimization (SEO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your site performs i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age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No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Search_engine_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ppropriate &lt;meta&gt;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, keywor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escriptive &lt;titl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Amazon’s title -- it’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92C-6A47-4807-96F1-DB99CC9625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ach search engine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speci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support/webmast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eople to lin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loggers to blog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likes blo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98B-2823-4CE1-BFFC-27957AEFC9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PageRan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s are websites, arrows ar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7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75E-1330-4019-9195-B7A4984CFA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your website will be keyworded based on the anchor text of incoming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yworded by &lt;title&gt;, &lt;meta&gt;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5833" b="0"/>
          <a:stretch/>
        </p:blipFill>
        <p:spPr>
          <a:xfrm>
            <a:off x="0" y="510552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4080" y="46483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of Trulia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9F2-3C6D-4850-A1DA-0B30E4C66E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Cellarspo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notes, collections, frien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ote the whole site 3 times i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P at first, then two rewrites in JSP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y first money-mak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your shoes when I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the idea from my Dad; I don’t like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DA4-5BBE-4233-8242-9F28496721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Bo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Google got smart, they keyworded mostly by 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s linked to whitehouse.gov/president with anchor text “miserable 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ing “miserable failure” showed whitehouse.gov/president as the firs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since fixe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Google_bo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5D6-C078-4E24-9187-CACE577739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Useful SEO t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Webmas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oogle.com/web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formation about your site in Google’s searc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4044960"/>
            <a:ext cx="624852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EE5-8463-4E41-961A-044B2D81D4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your own site is an indefini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arspo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make muc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in every single one of my interviews at Google, Redfi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ominently on my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grea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nsanely exc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E88-3DE3-4311-A7F6-F86EA92E78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ar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eb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CC3-A677-40B9-8788-68E132BAA5E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25F0-12CA-40E4-BFDB-BF10F94394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in Academ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in 4 different classes (15 cred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03 - Software Engineering (4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work on a larg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 (esp. with M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475/476 - Plann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redi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John Castle (castlej@u) if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90H - Distributed Systems (3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3E9-5FA5-431F-A1CB-D67FB9E7F9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gal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get shutdown or 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433A-CA4F-4667-BC32-9C528A4DE6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, review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 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exclusive usage of a logo, name, or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and exclusive usage of a product, algorith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B1F-D21B-4023-95DA-24BADCBF0A0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ol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some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license agreement say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data on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s don’t need to be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A36-FCB6-4B3E-AE86-300C0CE937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individual running a website, your private assets are no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 private assets by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g a  Limited Liabilit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the state you oper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ecstate.wa.gov/corp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bably isn’t necessary unless you’re doing something that might be borderlin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A86-8E89-47FE-A953-FC7E7C97B5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ough 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yo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40F1-2678-4E8F-BBBB-13AE05760D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ood cod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improving / fixing your code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build a team of developers, because multiple heads are better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SE 4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739-0866-433B-A9EC-DC14B4874B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’s after 190m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ter is shutting down at end of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you continue to tin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UW studen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washington.edu/computing/web/publishing/studen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MySQL on D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ashington.edu/computing/web/publishing/mysql-install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http://students.washington.edu/youruwne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etup PHP, Apache, MySQL on your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A49-A9C9-43A8-882F-8A2FF967F2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f you want mor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your own .com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make som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take web development to the next le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284-63DC-4800-8A49-C72EEF15B0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between a legitimate website and a personal project is small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beauty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you are capable of making something that peopl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ar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boo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themil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igslis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agand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ebsites that started off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B3E-70F4-4C51-9B20-24116FFC8C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xt Level is 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martystep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web space from a hos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ovide you with PHP, MySQ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 domain name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amhost.com (Marty’s recommen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add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ho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gsi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B9B-72FE-4A1A-A428-4B06951A86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sting Gotch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r host provides the services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osts only provide PHP + 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nly provide Ruby on Rail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top shops are 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the domain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host is awe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0DD-90E8-4BCB-9962-E244FEC89C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17:58Z</dcterms:created>
  <dc:creator>Office 2004 Test Drive User</dc:creator>
  <dc:description/>
  <dc:language>en-US</dc:language>
  <cp:lastModifiedBy>Registered User</cp:lastModifiedBy>
  <dcterms:modified xsi:type="dcterms:W3CDTF">2008-06-04T21:13:09Z</dcterms:modified>
  <cp:revision>151</cp:revision>
  <dc:subject/>
  <dc:title>PowerPoint Presentation</dc:title>
</cp:coreProperties>
</file>