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0FEB-FD8E-4109-A214-F196E9AAF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4F4-AB99-4016-8914-AE1945B6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501-3D8C-47D1-BEE8-3093FCEE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17D-9CB5-4C1B-9A22-A8EE1062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553-6F37-44A8-BC84-B6C13BCD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AFE2-768D-4412-8C67-EF0544A1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9975-5CAD-4204-9A06-7D72D6C9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1D0D-17EF-43D8-996E-90B98AB0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D509-9155-4EA1-AA63-0C9DB911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AE07-FFAA-46F6-9AA8-4EB098BD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A9B8-A4E1-49E4-AAC2-147B37E6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135D-33E5-40EB-9533-E1E6D54F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464-522B-4861-B2C2-F1CB80D3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ED11-E2BC-4D06-892D-2A0EEA24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1FC7-04C5-41BA-B78A-1009EA8F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7154-9D30-4422-8780-06DDDABE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9644-011D-4E5E-BA30-552BEF55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1376-9810-4DB7-B6BA-0FEA9F0E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409-E13F-44CC-B9A8-EDE2266F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017-632F-4555-A474-945FD6B1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113-A69C-445E-8A0A-E3BFE720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C14-09C5-416C-8431-17D341C9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BA6-A2C4-4C8B-B530-8414D08A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0E1-F85F-42CD-AAD1-73D8A3AE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6C7-6EE2-4341-9C2B-94285529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F90D-E87A-4A77-8AC8-1F86AD9B7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1977-6C67-40F4-99EB-5E383BA104B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m/analytics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adsense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ellarspot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dwords.google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secstate.wa.gov/corps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shington.edu/computing/web/publishing/students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king a Website L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 Loddeng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exloddengaard@gmail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ttp://www.alexloddengaard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006D-DE33-47A6-A78F-5EF072AAD4A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K, you’re l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5EF1-FC37-4914-804D-1ECE664F9B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to refinement i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will tell you more about the problem you’re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you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by interviewing, surveying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y opinion, Cellarspot was solving a fak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research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know enough about wine connoiss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increases the likeliness of your website being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more fun when your website is used 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352-C881-4CB8-8F25-EF68357179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Focu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focus was on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make a website with awesome functionality; the look is less importan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focus was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have focused on a core feature set with an attractive and grabbing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e connoisseurs need attractive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I done research upfront I would have known this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1AA-7F2D-4B11-A995-DA6179EBEA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iva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upfront with your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your privacy policy in a “Terms”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book’s “Terms” page is ~8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had a big problem with this rec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us screenshot from Face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4809960"/>
            <a:ext cx="8534160" cy="9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FB9-F73F-4A5B-914C-936E8D1F74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You got a good ide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 and evaluate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DFED-6389-4BD2-A0B8-44664937B90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ve you looked at the 190m sourc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ut Marty knows more about you than you think … he’s got Google Ana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9067680" cy="12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02A-CF93-4BBD-89F7-7F8A22280B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Analytics (GA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up here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google.com/ana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just install the JavaScript they giv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 gives you insane statistics about you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90920" y="3962520"/>
            <a:ext cx="4190760" cy="25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2DD-618D-4D00-A3A7-1D6C0039D4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venue Mode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om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358D-BA25-4D75-B9EC-BF8C35FA57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dvertisements on Your Si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Ad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displays relevant 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per click (usually ~$.10-3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zable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ool with a website can install the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sign up and install the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google.com/ad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71600" y="5675400"/>
            <a:ext cx="6599160" cy="87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F80-5D3E-47E1-9925-27D38BE000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AdSense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103480"/>
            <a:ext cx="8229600" cy="40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A375-AEFA-43DE-884F-3E7BACDD22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bout 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a CSE 143/190L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Manager at Red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cellarspo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for wine conno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5715000" cy="24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835-A8D0-49A7-9902-21E157FBD4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ferra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owner gets commission from referred 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-commerce sites offe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on.com, Bestbuy.com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 ranges between 5-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“Join Associates” on Amaz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EE0-5B15-4822-BDF7-6F011399BC0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Referral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79360" y="2438280"/>
            <a:ext cx="8712360" cy="311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4E2-EFE5-4CD1-887D-0C9D8B7F7AD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-Marke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your site and get users on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A69F-52A9-4371-B5EE-878DE53CC8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oogle AdWor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oduce ads that show up as Google AdSense ads on relevant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 can be purchased that make you the “sponsored link” on the Google search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per Click (CPC ~$.10-3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dwords.goog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320" y="5486400"/>
            <a:ext cx="8915400" cy="13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90A-7518-4EE3-8D75-5BF40F2894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member those stupid &lt;meta&gt; tag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really uses those,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earn about SE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9EC-3355-4842-A402-42A39C3E18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ut firs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Google, how would you determine if one website was better than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determine the most popular person by what they say about themsel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AA0-AF14-4A0F-96D6-AD4525C8D25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arch Engine Optimization (SEO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your site performs in 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more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Page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No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Search_engine_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he appropriate &lt;meta&gt;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, keyword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descriptive &lt;titl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Amazon’s title -- it’s 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7E52-12B9-4E3C-8BB2-1C77ABDB4F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O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each search engine’s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they specify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oogle.com/support/webmaster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mpor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eople to link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bloggers to blog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 likes blog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BF2-9909-49BB-A82F-F36F94491BE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PageRan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s are websites, arrows are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4648320" cy="37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455-2DA1-4468-A734-53859930882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O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your website will be keyworded based on the anchor text of incoming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eyworded by &lt;title&gt;, &lt;meta&gt; an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5833" b="0"/>
          <a:stretch/>
        </p:blipFill>
        <p:spPr>
          <a:xfrm>
            <a:off x="0" y="5105520"/>
            <a:ext cx="9144000" cy="1368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4080" y="46483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er of Trulia.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DE1-5FC8-4C7C-8355-4E0A5DFEC06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Cellarspo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for wine conno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notes, collections, friend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ote the whole site 3 times in 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P at first, then two rewrites in JSP (J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my first money-making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n your shoes when I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t the idea from my Dad; I don’t like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8F3-6DD8-4434-878F-EC94AAC0D8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Bom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Google got smart, they keyworded mostly by ancho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gers linked to whitehouse.gov/president with anchor text “miserable fail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ing “miserable failure” showed whitehouse.gov/president as the first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has since fixed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Google_bom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A357-D1D0-4F6B-9963-8DBA50C6CF1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Useful SEO too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Webmast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google.com/webm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information about your site in Google’s search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4044960"/>
            <a:ext cx="6248520" cy="266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B31-40BE-452D-B4CB-435D19C846A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your own site is an indefinit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arspo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make much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in every single one of my interviews at Google, Redfin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prominently on my 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great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insanely exci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C0E-CE5F-4C75-9904-9CDFF3C6E8F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arsp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web develop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31D-FF9F-441B-81FB-9822E03FD1C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flo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02C8-6816-478A-8DD8-395726A66C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in Academic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ued in 4 different classes (15 cred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 403 - Software Engineering (4 cred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E majo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y to work on a larg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ly recommended (esp. with Ma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475/476 - Planning a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redits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John Castle (castlej@u) if inte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ly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 490H - Distributed Systems (3 cred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E majo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D91-A103-4D34-9519-642D21BEE8F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gal Inf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get shutdown or s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E31E-3432-450E-A3AA-8EE977420D4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tellectual Proper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of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, review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mark 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exclusive usage of a logo, name, or ph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and exclusive usage of a product, algorithm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81B-66C1-4D14-88E6-033C10255BD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pyrigh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violat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someone els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the license agreement says you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data on any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s don’t need to be spe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im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5E4-F75F-440F-8B02-566D70A3106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 Yoursel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n individual running a website, your private assets are not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your private assets by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ing a  Limited Liability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ing incorpo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on the state you operat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ecstate.wa.gov/corp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bably isn’t necessary unless you’re doing something that might be borderline il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BF9-3864-4E59-8C8D-1ABE136DE73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ough about 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you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E159-7F93-41B4-A6ED-E36180E4F8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ftware Developme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good cod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make improving / fixing your code MUCH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build a team of developers, because multiple heads are better tha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CSE 4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D63-9C75-4FD8-90C7-7920FFD91DF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’s after 190m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ter is shutting down at end of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ill you continue to tink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your UW studen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washington.edu/computing/web/publishing/student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MySQL on D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washington.edu/computing/web/publishing/mysql-install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http://students.washington.edu/youruwnet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etup PHP, Apache, MySQL on your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9AA4-1C70-4BC1-B040-1BC8A835FD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f you want mor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your own .com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make some mon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take web development to the next lev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1B0-0986-42D3-9670-6BB0E8DA6E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Tru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p between a legitimate website and a personal project is small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beauty of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you are capable of making something that peopl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arsp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book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themilk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igslis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agand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ebsites that started off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F74-C2CE-4951-A092-ADC3B26653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xt Level is Hos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a domai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martystep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web space from a hos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provide you with PHP, MySQ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buy a domain name and web space from the sam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eamhost.com (Marty’s recommend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add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hos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gsix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7B4-8596-4852-9972-2887DB99E8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sting Gotcha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your host provides the services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hosts only provide PHP + 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nly provide Ruby on Rail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top shops are conven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the domain and web space from the sam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eamhost is awe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58B-49F5-4D32-A694-303142D5DC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17:58Z</dcterms:created>
  <dc:creator>Office 2004 Test Drive User</dc:creator>
  <dc:description/>
  <dc:language>en-US</dc:language>
  <cp:lastModifiedBy>Registered User</cp:lastModifiedBy>
  <dcterms:modified xsi:type="dcterms:W3CDTF">2008-06-04T21:13:09Z</dcterms:modified>
  <cp:revision>151</cp:revision>
  <dc:subject/>
  <dc:title>PowerPoint Presentation</dc:title>
</cp:coreProperties>
</file>