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53BF1-1D3F-4718-A363-695DB4508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1146240" y="685800"/>
            <a:ext cx="457020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PlaceHolder 1"/>
          <p:cNvSpPr>
            <a:spLocks noGrp="1"/>
          </p:cNvSpPr>
          <p:nvPr>
            <p:ph type="body"/>
          </p:nvPr>
        </p:nvSpPr>
        <p:spPr>
          <a:xfrm>
            <a:off x="685800" y="4343400"/>
            <a:ext cx="5487840" cy="4116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362A6D-ED31-4DE5-AF0D-66A956063F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0BD5DE-584D-4709-8D91-DB0D1A6B3C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1FBBE7-0AE3-4F6A-82F8-B48F4BCE08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1A5E10-3038-43EC-8667-57C1DC4F9A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23918D-9263-4566-99F3-013036FDB0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CE1B9-5E51-4D40-97E3-ECC22CEDE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D42DF-9400-4ABA-BA02-7066A54A5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06FED-DA5C-4CCD-8D49-92B3F5EA4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05CE0-DA17-4C76-81FB-31FE0C282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4CA0D-5619-4435-9CAD-9EA8A0BD6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AFEA7-387C-47CA-86BD-9BF4B0614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C46094-9835-404D-ADBE-2741EDEEAF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638A1-74E0-400B-898F-5A8B3150D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DB072-C336-41AC-A18F-F15493835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70DB4-3F99-44EF-9073-45A325EEC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490FB4-89F3-4F10-8996-BADE3C6F61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A2CDA-48AA-4E49-BAF1-8F10C63047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70D6CB-D00C-4C66-AC37-E91F3CB216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819523-3E79-49D7-8D2A-C5BFC7CB0A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1978BC-5528-4798-904F-17A1C72C43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417BD7-1482-4639-9103-8CFABDF14F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253D28-899A-49D2-93AE-E0452F609C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979705-4C78-44B8-8636-04EEA03E73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8D6FD9-A697-4DA2-A906-D818C10C03B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F0390-B9DD-45F7-BF86-A2B87EC374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1D51D-7330-462D-A59E-D145CE91E4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16</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Exercises for Part 3</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Exercises</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three advantages/disadvantages of using a web of trust model vs. using a certificate authority–based trust mod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how you can use symmetric encryption to achieve (a) authentication, (b) confidentiality, and (c) message integr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ing Problem</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the </a:t>
            </a:r>
            <a:r>
              <a:rPr b="0" lang="en-US" sz="2800" spc="-1" strike="noStrike">
                <a:solidFill>
                  <a:srgbClr val="000000"/>
                </a:solidFill>
                <a:latin typeface="Courier New"/>
              </a:rPr>
              <a:t>AESEncrypter</a:t>
            </a:r>
            <a:r>
              <a:rPr b="0" lang="en-US" sz="2800" spc="-1" strike="noStrike">
                <a:solidFill>
                  <a:srgbClr val="000000"/>
                </a:solidFill>
                <a:latin typeface="Arial"/>
              </a:rPr>
              <a:t> program of Section 12.1.6 to compute and verify a MAC on the message in addition to encrypting and decrypting data. Be sure to use different keys for the encryption and MAC compu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rker Student</cp:lastModifiedBy>
  <dcterms:modified xsi:type="dcterms:W3CDTF">2008-06-20T22:20:02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