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A319-E551-4A48-93AA-7FF05338A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146240" y="685800"/>
            <a:ext cx="4570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body"/>
          </p:nvPr>
        </p:nvSpPr>
        <p:spPr>
          <a:xfrm>
            <a:off x="685800" y="4343400"/>
            <a:ext cx="5487840" cy="4116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547303-C1A2-45F5-ADE8-E9A4E9FD43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835112-FEBE-48E1-9D4A-F941780B5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157BC8-AA42-4E7B-8403-1616D0D862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E2D810-1E25-4164-8002-6F06706B39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EAF30-519C-4C90-B612-A306373DE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F9969-6DD8-4A78-A92B-9F3BC77A4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3DC1F-8032-437D-8B61-EE9F4D35F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7876D-340D-4905-B1D8-79CD44FBB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B681E-A8D7-4B0E-99AE-988FB88D8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EB36F-6387-4B58-BF1B-E42E594E9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F539F-A416-40F9-AB70-6136349A9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BDFC24-ABF4-4FA5-A31C-36C820C8F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D9A79-2963-433B-B89D-1C38DCB5F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F1776-859D-41BE-B549-2C2BD6853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9921E-147F-440E-90F6-FBA67CC1F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5574D1-F58F-416E-A4C3-5B7E0E231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7B828-1098-42F2-BBAC-A996F1CFD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D176A9-408B-43F6-ADFC-64DABAED4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401DC6-67BC-4804-9A18-0D69EA594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3090FB-F3A1-4AB7-B4FF-706D87E2C5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4E6E08-EAC1-4134-AF1B-06500F0AE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D1087D-4D3D-4BB5-BE02-FE78222F7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70C35C-C6C9-45A6-B419-952C1515B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81247F-DB64-463D-9D9C-E768EEB8F9A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848C-F778-44F5-9849-DE15483086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3079-8592-4B9D-8449-C2056289E0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1</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Exercises for Part 2</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Exercises (1)</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hapter 9, the password manager stored passwords in a file. What would be some of the trade-offs involved in storing the passwords in a relational database instead of in a file? What types of additional input validation might need to be done on usernames and passwords if they are to be stored in a data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Exercises (2)</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n HTML filter that, given an arbitrary HTML document, produces an HTML document that will not result in the execution of script if loaded into a user’s browser, but leaves “basic markup” (fonts, formatting, etc.) intact. Consider the possibility that the input document is not well-formed HTML, and also consider browser-specific fea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HTTP digest authorization. Use a password file with salts, and reuse the </a:t>
            </a:r>
            <a:r>
              <a:rPr b="0" lang="en-US" sz="2800" spc="-1" strike="noStrike">
                <a:solidFill>
                  <a:srgbClr val="000000"/>
                </a:solidFill>
                <a:latin typeface="Courier New"/>
              </a:rPr>
              <a:t>BasicAuthWebServer</a:t>
            </a:r>
            <a:r>
              <a:rPr b="0" lang="en-US" sz="2800" spc="-1" strike="noStrike">
                <a:solidFill>
                  <a:srgbClr val="000000"/>
                </a:solidFill>
                <a:latin typeface="Arial"/>
              </a:rPr>
              <a:t> from Chapter 9. Implement a program that allows you to add and delete passwords to and from the password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ker Student</cp:lastModifiedBy>
  <dcterms:modified xsi:type="dcterms:W3CDTF">2008-06-20T22:19:17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