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9720" cy="458640"/>
          </a:xfrm>
          <a:prstGeom prst="rect">
            <a:avLst/>
          </a:prstGeom>
          <a:noFill/>
          <a:ln w="0">
            <a:noFill/>
          </a:ln>
        </p:spPr>
        <p:txBody>
          <a:bodyPr lIns="93240" rIns="9324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95560" y="0"/>
            <a:ext cx="2980080" cy="458640"/>
          </a:xfrm>
          <a:prstGeom prst="rect">
            <a:avLst/>
          </a:prstGeom>
          <a:noFill/>
          <a:ln w="0">
            <a:noFill/>
          </a:ln>
        </p:spPr>
        <p:txBody>
          <a:bodyPr lIns="93240" rIns="9324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9480" y="686880"/>
            <a:ext cx="4581360" cy="343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702280"/>
            <a:ext cx="2979720" cy="459000"/>
          </a:xfrm>
          <a:prstGeom prst="rect">
            <a:avLst/>
          </a:prstGeom>
          <a:noFill/>
          <a:ln w="0">
            <a:noFill/>
          </a:ln>
        </p:spPr>
        <p:txBody>
          <a:bodyPr lIns="93240" rIns="9324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95560" y="8702280"/>
            <a:ext cx="2980080" cy="459000"/>
          </a:xfrm>
          <a:prstGeom prst="rect">
            <a:avLst/>
          </a:prstGeom>
          <a:noFill/>
          <a:ln w="0">
            <a:noFill/>
          </a:ln>
        </p:spPr>
        <p:txBody>
          <a:bodyPr lIns="93240" rIns="9324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6A1E34-C828-442A-94A3-C5B5427D4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507D9F-D992-43B8-98C5-B100037CD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9"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0"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1" name=""/>
          <p:cNvSpPr/>
          <p:nvPr/>
        </p:nvSpPr>
        <p:spPr>
          <a:xfrm>
            <a:off x="1149480" y="687240"/>
            <a:ext cx="458316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PlaceHolder 1"/>
          <p:cNvSpPr>
            <a:spLocks noGrp="1"/>
          </p:cNvSpPr>
          <p:nvPr>
            <p:ph type="body"/>
          </p:nvPr>
        </p:nvSpPr>
        <p:spPr>
          <a:xfrm>
            <a:off x="686880" y="4352400"/>
            <a:ext cx="5504040" cy="4124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9480" y="687240"/>
            <a:ext cx="4581360" cy="3435480"/>
          </a:xfrm>
          <a:prstGeom prst="rect">
            <a:avLst/>
          </a:prstGeom>
          <a:ln w="0">
            <a:noFill/>
          </a:ln>
        </p:spPr>
      </p:sp>
      <p:sp>
        <p:nvSpPr>
          <p:cNvPr id="170"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various things that programmers, systems admins, and users can 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s eliminate buffer overflow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should not open attachments.  Sys admins can auto-strip email attachmen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 admins and users can disable unnecessary funcationlity.  And use firewalls to restrict access to ports that shouldn’t be used and may be vulnera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9480" y="687240"/>
            <a:ext cx="4581360" cy="3435480"/>
          </a:xfrm>
          <a:prstGeom prst="rect">
            <a:avLst/>
          </a:prstGeom>
          <a:ln w="0">
            <a:noFill/>
          </a:ln>
        </p:spPr>
      </p:sp>
      <p:sp>
        <p:nvSpPr>
          <p:cNvPr id="164"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hat we are going to do is survey some of the most popular and serious viruses and worms that have wreaked havoc by taking advantage of buffer overflow vulnerabilities in widely deployed progra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purposes of this course, we define a virus as a computer program that is capable of making copies of itself, and inserting those copies into other programs.  Viruses may make copies of themselves onto other programs stored on a computers hard disk or onto floppy disks inserted into the comput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m is a virus that may be capable of not only making copies of itself into other programs on hard or floppy disks attached to a particular computer, but are capable of using a computer network to make copies of itself onto other computers (and/or the disks attached to other comput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omputer viruses are a serious threat, the amount of damage they can cause is limited by the number of floppy disks that are infected, and then inserted into other computers.  On the other hand, worms spread much more quickly than viruses since a computer infected with a worm can constantly make connections to other computers anywhere on the network and infect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info in “White-Hat” Security Arsenal by Avi Rubi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9480" y="687240"/>
            <a:ext cx="4581360" cy="3435480"/>
          </a:xfrm>
          <a:prstGeom prst="rect">
            <a:avLst/>
          </a:prstGeom>
          <a:ln w="0">
            <a:noFill/>
          </a:ln>
        </p:spPr>
      </p:sp>
      <p:sp>
        <p:nvSpPr>
          <p:cNvPr id="166"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computer worm ever built was the Morris worm (named after Robert Morris).  When Robert Morris first deployed his worm, it was able to infect over 6000 computers within just a few hours, at a rate of hundreds of computers a minute.  A computer virus would spread much slower since new computers could only be infected at the rate at which floppy disks are inserted into infected computers, and then used in uninfected computers.  The rate at which a computer virus can spread would thus be much lower than hundreds per minute because the virus requires the help of the human operator to spread from one computer to an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ever, a worm, such as the Morris worm, was able to spread very quickly because it did not need the assistance of a human operator.  Instead, as long as an infected computer is connected to the network, the infected computer could contact other uninfected computers on the network and spread to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id the Morris worm do?  Well, luckily, all that it did was make copies of itself to other computers on the network.  But that in itself was enough to cause significant damage.  The amount of network traffic that was generated by the worm scanning for other computers to infect was significant.  The effort required by systems administrators to determine if a particular computer was infected, and to remove it was also signific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did the Morris worm work? What it would do once it started running, was scan the files /etc/hosts.equiv and /.rhosts to find other machines to attack.  Then it would try it remote login to some of these hosts as one “vector” (or method) of its attack.  The Morris Worm has a dictionary of 432 of “common” passwords that it would try to use to break into user accou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ever, if the worm could not directly remotely login into other hosts, it would use two additional “vectors” of attack.  The first was a buffer overflow vulnerability in fingerd, and the second was a bug in the sendmail program that is used to route e-mail in UNIX.  We will talk about buffer overflow vulnerabilties later this this course. The particular buffer overflow vulnerability that the Morris worm took advantage of was one in a program called fingerd that is installed on UNIX systems.  Finger is a program that let’s you check whether or not a particular user is logged in, and fingerd is a “finger daemon server” that is installed on all UNIX systems.  The Morris worm leveraged the fact that fingerd is installed on all UNIX systems to help propagate from one UNIX machine to the nex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cond vulnerability based upon a programming bug (also in the sendmail program).  The sendmail program is used to route emails from one UNIX host to another, and it had a debugging “feature” that Morris took advantage of to remotely execute code on another machine.  Of course, the debugging mode should have been disabled on production UNIX systems, but the fact that it wasn’t highlights a problem that is still around today– making sure that systems are correctly configured to run secure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9480" y="687240"/>
            <a:ext cx="4581360" cy="3435480"/>
          </a:xfrm>
          <a:prstGeom prst="rect">
            <a:avLst/>
          </a:prstGeom>
          <a:ln w="0">
            <a:noFill/>
          </a:ln>
        </p:spPr>
      </p:sp>
      <p:sp>
        <p:nvSpPr>
          <p:cNvPr id="168"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de from the technical details of the worm and how it worked, we learned a number of other lessons from the Morris w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ty– if all the computers run the same operating systems, they have all the same operating system vulner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ity– writing bug-free software is hard.  The more lines of code, the more bugs.  The more bugs, the more the likelihood that one of the bugs can result in an exploitable security vulner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passwords will minimize the effectiveness of dictionary at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 Computer Emergency Response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the Morris worm did do something serious?  Would shutting down servers be a good ide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32550C-5920-4D01-8A73-23407ADB18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5E6AE0-554F-47E5-AB6D-43AADE75B7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D6A316-00E9-4AAB-9277-74BCC944E7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3283C1-CA4C-4721-8DBD-FAA12D45B3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B6BCE6-2CCB-4FB9-A80D-6E9BE462D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6B309-BBB2-45BA-B414-3518821F9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596E0-5317-41B7-A959-EC8F1FE7B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10B8E-99B1-4BF3-83A4-F990B2BB5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D023B-97CC-426E-8FC5-610C31F1A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9A7FA-2A8E-4F8A-AAA9-77081D0B1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5F001-1EC4-4717-873A-24E270FFD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28EC4C-5CDC-4AB9-9C84-2578A978F2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5FFCC-6B6B-48F7-9909-D50218E17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D013B-59FA-4053-B2B7-5C2160628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F47CB-7D09-4329-BE6E-EDAE728E1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465DC7-A5AC-4EE0-A74F-60DB9CE275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238E81-53FA-455F-9C24-0F1EACE9A8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515045-8EF5-445E-B0CF-4A8E17613B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B44D61-61EC-4241-A6C3-B5DABF0C5B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A9B4E1-4BFF-48BB-A964-8F66D2228C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F4360D-022F-42F6-98C3-7902FA1942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A8FD8B-E94F-440C-BB44-9C50D7BDEB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449C86-862B-4AE1-AA8B-ABF60CE106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E285CA-CEF0-4DEA-BD8E-ED9731EC57A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5B08-3B84-4EA9-9E1C-EB22A337D2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7AF1-3735-40BB-9BB8-172DA6F02F4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5</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Worms and Other Malware</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5. The Nimda Worm</a:t>
            </a:r>
            <a:endParaRPr b="0" lang="en-US" sz="4400" spc="-1" strike="noStrike">
              <a:solidFill>
                <a:srgbClr val="000000"/>
              </a:solidFill>
              <a:latin typeface="Arial"/>
            </a:endParaRPr>
          </a:p>
        </p:txBody>
      </p:sp>
      <p:sp>
        <p:nvSpPr>
          <p:cNvPr id="133" name="PlaceHolder 2"/>
          <p:cNvSpPr>
            <a:spLocks noGrp="1"/>
          </p:cNvSpPr>
          <p:nvPr>
            <p:ph/>
          </p:nvPr>
        </p:nvSpPr>
        <p:spPr>
          <a:xfrm>
            <a:off x="457200" y="1981080"/>
            <a:ext cx="8229600" cy="4268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pagation vector</a:t>
            </a:r>
            <a:r>
              <a:rPr b="0" lang="en-US" sz="2800" spc="-1" strike="noStrike">
                <a:solidFill>
                  <a:srgbClr val="000000"/>
                </a:solidFill>
                <a:latin typeface="Arial"/>
              </a:rPr>
              <a:t>: method by which worm spreads to another machin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yload</a:t>
            </a:r>
            <a:r>
              <a:rPr b="0" lang="en-US" sz="2800" spc="-1" strike="noStrike">
                <a:solidFill>
                  <a:srgbClr val="000000"/>
                </a:solidFill>
                <a:latin typeface="Arial"/>
              </a:rPr>
              <a:t>: data worm carries as it travel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 Rapidly, made Code Red wors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multiple propagation vector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from server to server (as in Code R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also from server to client (browser downloading infected file also became infect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 client sent e-mails with worm code as paylo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6. Blaster Worm</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ited </a:t>
            </a:r>
            <a:endParaRPr b="0" lang="en-US" sz="28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overflow in Microsoft OS: attacked Distributed Component Object Model service </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ch deployed but many users didn’t download it</a:t>
            </a:r>
            <a:endParaRPr b="0" lang="en-US" sz="24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d infected machine to shut down</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d a DDoS attack against Windows Update website to prevent users from getting the pa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6. Blaster Worm</a:t>
            </a:r>
            <a:endParaRPr b="0" lang="en-US" sz="4400" spc="-1" strike="noStrike">
              <a:solidFill>
                <a:srgbClr val="000000"/>
              </a:solidFill>
              <a:latin typeface="Arial"/>
            </a:endParaRPr>
          </a:p>
        </p:txBody>
      </p:sp>
      <p:pic>
        <p:nvPicPr>
          <p:cNvPr id="137" name="" descr=""/>
          <p:cNvPicPr/>
          <p:nvPr/>
        </p:nvPicPr>
        <p:blipFill>
          <a:blip r:embed="rId1"/>
          <a:srcRect l="41322" t="40336" r="39132" b="35666"/>
          <a:stretch/>
        </p:blipFill>
        <p:spPr>
          <a:xfrm>
            <a:off x="3265560" y="1936800"/>
            <a:ext cx="4968720" cy="4575240"/>
          </a:xfrm>
          <a:prstGeom prst="rect">
            <a:avLst/>
          </a:prstGeom>
          <a:ln w="0">
            <a:noFill/>
          </a:ln>
        </p:spPr>
      </p:pic>
      <p:sp>
        <p:nvSpPr>
          <p:cNvPr id="138" name=""/>
          <p:cNvSpPr/>
          <p:nvPr/>
        </p:nvSpPr>
        <p:spPr>
          <a:xfrm>
            <a:off x="348840" y="2089080"/>
            <a:ext cx="22136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ystem shutdow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ialog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Blaster Wor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6. SQL Slammer Worm</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ited another buffer overflow</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k a single 376-byte UDP packe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P connectionless -&gt; spread quickl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 75,000, 90% w/in 10 min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d Microsoft SQL Server DB App</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bled server, scanned random IPs to infec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ive traffic due to the worm propagating caused outages in 13,000 BofA ATM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lines were cancelled &amp; delay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3. More Malware</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otkits</a:t>
            </a:r>
            <a:r>
              <a:rPr b="0" lang="en-US" sz="2800" spc="-1" strike="noStrike">
                <a:solidFill>
                  <a:srgbClr val="000000"/>
                </a:solidFill>
                <a:latin typeface="Arial"/>
              </a:rPr>
              <a:t>: imposter OS tools used by attacker to hide his track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otnets</a:t>
            </a:r>
            <a:r>
              <a:rPr b="0" lang="en-US" sz="2800" spc="-1" strike="noStrike">
                <a:solidFill>
                  <a:srgbClr val="000000"/>
                </a:solidFill>
                <a:latin typeface="Arial"/>
              </a:rPr>
              <a:t>: network of software robots attacker uses to control many machines at once to launch attacks (e.g. DDoS through packet flooding, click frau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pyware</a:t>
            </a:r>
            <a:r>
              <a:rPr b="0" lang="en-US" sz="2800" spc="-1" strike="noStrike">
                <a:solidFill>
                  <a:srgbClr val="000000"/>
                </a:solidFill>
                <a:latin typeface="Arial"/>
              </a:rPr>
              <a:t>: software that monitors activity of a system or its users without their conse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3. More Malware</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yloggers</a:t>
            </a:r>
            <a:r>
              <a:rPr b="0" lang="en-US" sz="2800" spc="-1" strike="noStrike">
                <a:solidFill>
                  <a:srgbClr val="000000"/>
                </a:solidFill>
                <a:latin typeface="Arial"/>
              </a:rPr>
              <a:t>: spyware that monitors user keyboard or mouse input, used to steal usernames, passwords, credit card #s, etc…</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rojan Horses</a:t>
            </a:r>
            <a:r>
              <a:rPr b="0" lang="en-US" sz="2800" spc="-1" strike="noStrike">
                <a:solidFill>
                  <a:srgbClr val="000000"/>
                </a:solidFill>
                <a:latin typeface="Arial"/>
              </a:rPr>
              <a:t>: software performs additional or different functions than advertised</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dware</a:t>
            </a:r>
            <a:r>
              <a:rPr b="0" lang="en-US" sz="2800" spc="-1" strike="noStrike">
                <a:solidFill>
                  <a:srgbClr val="000000"/>
                </a:solidFill>
                <a:latin typeface="Arial"/>
              </a:rPr>
              <a:t>: shows ads to users w/o their consent</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bots</a:t>
            </a:r>
            <a:r>
              <a:rPr b="0" lang="en-US" sz="2800" spc="-1" strike="noStrike">
                <a:solidFill>
                  <a:srgbClr val="000000"/>
                </a:solidFill>
                <a:latin typeface="Arial"/>
              </a:rPr>
              <a:t>: bot that clicks on ads, leads to click fraud (against cost-per-click or CPC ad models)</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907240" y="3000240"/>
            <a:ext cx="3273120" cy="3094200"/>
          </a:xfrm>
          <a:prstGeom prst="rect">
            <a:avLst/>
          </a:prstGeom>
          <a:ln w="0">
            <a:noFill/>
          </a:ln>
        </p:spPr>
      </p:pic>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3. Distributing Malware</a:t>
            </a:r>
            <a:r>
              <a:rPr b="0" lang="en-US" sz="4400" spc="-1" strike="noStrike" baseline="30000">
                <a:solidFill>
                  <a:srgbClr val="000000"/>
                </a:solidFill>
                <a:latin typeface="Arial"/>
              </a:rPr>
              <a:t>1</a:t>
            </a:r>
            <a:endParaRPr b="0" lang="en-US" sz="4400" spc="-1" strike="noStrike">
              <a:solidFill>
                <a:srgbClr val="000000"/>
              </a:solidFill>
              <a:latin typeface="Arial"/>
            </a:endParaRPr>
          </a:p>
        </p:txBody>
      </p:sp>
      <p:sp>
        <p:nvSpPr>
          <p:cNvPr id="147" name="PlaceHolder 2"/>
          <p:cNvSpPr>
            <a:spLocks noGrp="1"/>
          </p:cNvSpPr>
          <p:nvPr>
            <p:ph/>
          </p:nvPr>
        </p:nvSpPr>
        <p:spPr>
          <a:xfrm>
            <a:off x="457200" y="1862280"/>
            <a:ext cx="8229600" cy="4101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malware distribution through </a:t>
            </a:r>
            <a:r>
              <a:rPr b="0" i="1" lang="en-US" sz="2800" spc="-1" strike="noStrike">
                <a:solidFill>
                  <a:srgbClr val="000000"/>
                </a:solidFill>
                <a:latin typeface="Arial"/>
              </a:rPr>
              <a:t>drive-by downloads</a:t>
            </a:r>
            <a:r>
              <a:rPr b="0" lang="en-US" sz="2800" spc="-1" strike="noStrike">
                <a:solidFill>
                  <a:srgbClr val="000000"/>
                </a:solidFill>
                <a:latin typeface="Arial"/>
              </a:rPr>
              <a:t> (i.e. automatic installation of binary when visiting websit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ull-based model (e.g. link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izes exposure by getting as many links as possible to malware distribution sit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engines such as Google </a:t>
            </a:r>
            <a:br>
              <a:rPr sz="2800"/>
            </a:br>
            <a:r>
              <a:rPr b="0" lang="en-US" sz="2800" spc="-1" strike="noStrike">
                <a:solidFill>
                  <a:srgbClr val="000000"/>
                </a:solidFill>
                <a:latin typeface="Arial"/>
              </a:rPr>
              <a:t>mark pages as potentially </a:t>
            </a:r>
            <a:br>
              <a:rPr sz="2800"/>
            </a:br>
            <a:r>
              <a:rPr b="0" lang="en-US" sz="2800" spc="-1" strike="noStrike">
                <a:solidFill>
                  <a:srgbClr val="000000"/>
                </a:solidFill>
                <a:latin typeface="Arial"/>
              </a:rPr>
              <a:t>malicious to prev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
          <p:cNvSpPr/>
          <p:nvPr/>
        </p:nvSpPr>
        <p:spPr>
          <a:xfrm>
            <a:off x="806400" y="6419880"/>
            <a:ext cx="7315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1" lang="en-US" sz="1400" spc="-1" strike="noStrike">
                <a:solidFill>
                  <a:srgbClr val="000000"/>
                </a:solidFill>
                <a:latin typeface="Arial"/>
              </a:rPr>
              <a:t>Source</a:t>
            </a:r>
            <a:r>
              <a:rPr b="0" lang="en-US" sz="1400" spc="-1" strike="noStrike">
                <a:solidFill>
                  <a:srgbClr val="000000"/>
                </a:solidFill>
                <a:latin typeface="Arial"/>
              </a:rPr>
              <a:t>: N. Provos et. al. “The Ghost in the Browser: Analysis of Web-based Malwa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3. Clickbot.A Botnet</a:t>
            </a:r>
            <a:r>
              <a:rPr b="0" lang="en-US" sz="4400" spc="-1" strike="noStrike" baseline="30000">
                <a:solidFill>
                  <a:srgbClr val="000000"/>
                </a:solidFill>
                <a:latin typeface="Arial"/>
              </a:rPr>
              <a:t>2</a:t>
            </a:r>
            <a:r>
              <a:rPr b="0" lang="en-US" sz="4400" spc="-1" strike="noStrike">
                <a:solidFill>
                  <a:srgbClr val="000000"/>
                </a:solidFill>
                <a:latin typeface="Arial"/>
              </a:rPr>
              <a:t> (1)</a:t>
            </a:r>
            <a:endParaRPr b="0" lang="en-US" sz="4400" spc="-1" strike="noStrike">
              <a:solidFill>
                <a:srgbClr val="000000"/>
              </a:solidFill>
              <a:latin typeface="Arial"/>
            </a:endParaRPr>
          </a:p>
        </p:txBody>
      </p:sp>
      <p:sp>
        <p:nvSpPr>
          <p:cNvPr id="150" name="PlaceHolder 2"/>
          <p:cNvSpPr>
            <a:spLocks noGrp="1"/>
          </p:cNvSpPr>
          <p:nvPr>
            <p:ph/>
          </p:nvPr>
        </p:nvSpPr>
        <p:spPr>
          <a:xfrm>
            <a:off x="457200" y="1969920"/>
            <a:ext cx="8229600" cy="4888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100,000 machines, HTTP-based botmast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ed </a:t>
            </a:r>
            <a:r>
              <a:rPr b="0" i="1" lang="en-US" sz="2800" spc="-1" strike="noStrike">
                <a:solidFill>
                  <a:srgbClr val="000000"/>
                </a:solidFill>
                <a:latin typeface="Arial"/>
              </a:rPr>
              <a:t>low-noise click fraud</a:t>
            </a:r>
            <a:r>
              <a:rPr b="0" lang="en-US" sz="2800" spc="-1" strike="noStrike">
                <a:solidFill>
                  <a:srgbClr val="000000"/>
                </a:solidFill>
                <a:latin typeface="Arial"/>
              </a:rPr>
              <a:t> against </a:t>
            </a:r>
            <a:r>
              <a:rPr b="0" i="1" lang="en-US" sz="2800" spc="-1" strike="noStrike">
                <a:solidFill>
                  <a:srgbClr val="000000"/>
                </a:solidFill>
                <a:latin typeface="Arial"/>
              </a:rPr>
              <a:t>syndicated search engin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dication: get feeds of ad impression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yndication: partner with a syndicated engin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get a share of revenue from click</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7/24 anti-virus scanners detected it in 5/06</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browser helper object (BH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ble of accessing entire DOM of web pag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in PHP with MySQL backen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3. Clickbot.A Botnet</a:t>
            </a:r>
            <a:r>
              <a:rPr b="0" lang="en-US" sz="4400" spc="-1" strike="noStrike" baseline="30000">
                <a:solidFill>
                  <a:srgbClr val="000000"/>
                </a:solidFill>
                <a:latin typeface="Arial"/>
              </a:rPr>
              <a:t>1</a:t>
            </a:r>
            <a:r>
              <a:rPr b="0" lang="en-US" sz="4400" spc="-1" strike="noStrike">
                <a:solidFill>
                  <a:srgbClr val="000000"/>
                </a:solidFill>
                <a:latin typeface="Arial"/>
              </a:rPr>
              <a:t> (2)</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46292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a:t>
            </a:r>
            <a:r>
              <a:rPr b="0" i="1" lang="en-US" sz="2800" spc="-1" strike="noStrike">
                <a:solidFill>
                  <a:srgbClr val="000000"/>
                </a:solidFill>
                <a:latin typeface="Arial"/>
              </a:rPr>
              <a:t>doorway-sites</a:t>
            </a:r>
            <a:r>
              <a:rPr b="0" lang="en-US" sz="2800" spc="-1" strike="noStrike">
                <a:solidFill>
                  <a:srgbClr val="000000"/>
                </a:solidFill>
                <a:latin typeface="Arial"/>
              </a:rPr>
              <a:t> (w/ links for bots to click) posing as sub-syndicated search eng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e-grained control for botmaste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noise: set </a:t>
            </a:r>
            <a:r>
              <a:rPr b="0" lang="en-US" sz="2400" spc="-1" strike="noStrike">
                <a:solidFill>
                  <a:srgbClr val="000000"/>
                </a:solidFill>
                <a:latin typeface="Courier New"/>
              </a:rPr>
              <a:t>maxclicks</a:t>
            </a:r>
            <a:r>
              <a:rPr b="0" lang="en-US" sz="2400" spc="-1" strike="noStrike">
                <a:solidFill>
                  <a:srgbClr val="000000"/>
                </a:solidFill>
                <a:latin typeface="Arial"/>
              </a:rPr>
              <a:t> bots could do to 20</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redirectors &amp; several layers below major search engine (harder to detect/trac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3" name="" descr=""/>
          <p:cNvPicPr/>
          <p:nvPr/>
        </p:nvPicPr>
        <p:blipFill>
          <a:blip r:embed="rId1"/>
          <a:stretch/>
        </p:blipFill>
        <p:spPr>
          <a:xfrm>
            <a:off x="1398600" y="2911320"/>
            <a:ext cx="6605640" cy="1492560"/>
          </a:xfrm>
          <a:prstGeom prst="rect">
            <a:avLst/>
          </a:prstGeom>
          <a:ln w="0">
            <a:noFill/>
          </a:ln>
        </p:spPr>
      </p:pic>
      <p:sp>
        <p:nvSpPr>
          <p:cNvPr id="154" name=""/>
          <p:cNvSpPr/>
          <p:nvPr/>
        </p:nvSpPr>
        <p:spPr>
          <a:xfrm>
            <a:off x="806400" y="6419880"/>
            <a:ext cx="482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1" lang="en-US" sz="1400" spc="-1" strike="noStrike">
                <a:solidFill>
                  <a:srgbClr val="000000"/>
                </a:solidFill>
                <a:latin typeface="Arial"/>
              </a:rPr>
              <a:t>Source</a:t>
            </a:r>
            <a:r>
              <a:rPr b="0" lang="en-US" sz="1400" spc="-1" strike="noStrike">
                <a:solidFill>
                  <a:srgbClr val="000000"/>
                </a:solidFill>
                <a:latin typeface="Arial"/>
              </a:rPr>
              <a:t>: N. Daswani et. al. “The Anatomy of Clickbo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4451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ms propagate rapidly, exploit common vulnerabilities and cause widespread damag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Buffer Overflows (Programmer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open email attachments (Users, SA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unnecessary functionality (Users, SA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ch systems regularly (SA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c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scanners with latest definitions</a:t>
            </a:r>
            <a:br>
              <a:rPr sz="2400"/>
            </a:br>
            <a:r>
              <a:rPr b="0" lang="en-US" sz="2400" spc="-1" strike="noStrike">
                <a:solidFill>
                  <a:srgbClr val="000000"/>
                </a:solidFill>
                <a:latin typeface="Arial"/>
              </a:rPr>
              <a:t>Use auto-updating scanners when possible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 programs such as Tripwire (S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4084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ms spreading across Internet through vulnerabilities in softwa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y of Worm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ris Wor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R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md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ster &amp; SQL Slammer</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tkits, Botnets, Spyware, and more Mal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1. What Is a Worm?</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irus</a:t>
            </a:r>
            <a:r>
              <a:rPr b="0" lang="en-US" sz="2800" spc="-1" strike="noStrike">
                <a:solidFill>
                  <a:srgbClr val="000000"/>
                </a:solidFill>
                <a:latin typeface="Arial"/>
              </a:rPr>
              <a:t>: program that copies itself into other program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be transferred through infected disk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dependent on human us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orm</a:t>
            </a:r>
            <a:r>
              <a:rPr b="0" lang="en-US" sz="2800" spc="-1" strike="noStrike">
                <a:solidFill>
                  <a:srgbClr val="000000"/>
                </a:solidFill>
                <a:latin typeface="Arial"/>
              </a:rPr>
              <a:t>: a virus that uses the network to copy itself onto other compute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ms propagate faster than virus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 of computers to infec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ng is fast (millisecond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 An Abridged History of Worms</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how worms affect operation of entire Interne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Worm: Morris Worm (1988)</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Red (2001)</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mda (2001)</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ster (2003)</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Slammer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1. Morris Worm: What It Did</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age: 6000 computers in just few hours</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sive network traffic by worm propagating</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just copied itself; didn’t touch data</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ited and used: </a:t>
            </a:r>
            <a:endParaRPr b="0" lang="en-US" sz="28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overflow in </a:t>
            </a:r>
            <a:r>
              <a:rPr b="0" lang="en-US" sz="2400" spc="-1" strike="noStrike">
                <a:solidFill>
                  <a:srgbClr val="000000"/>
                </a:solidFill>
                <a:latin typeface="Courier New"/>
              </a:rPr>
              <a:t>fingerd</a:t>
            </a:r>
            <a:r>
              <a:rPr b="0" lang="en-US" sz="2400" spc="-1" strike="noStrike">
                <a:solidFill>
                  <a:srgbClr val="000000"/>
                </a:solidFill>
                <a:latin typeface="Arial"/>
              </a:rPr>
              <a:t> (UNIX)</a:t>
            </a:r>
            <a:endParaRPr b="0" lang="en-US" sz="2400" spc="-1" strike="noStrike">
              <a:solidFill>
                <a:srgbClr val="000000"/>
              </a:solidFill>
              <a:latin typeface="Arial"/>
            </a:endParaRPr>
          </a:p>
          <a:p>
            <a:pPr lvl="1" marL="698400" indent="-26856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ndmail</a:t>
            </a:r>
            <a:r>
              <a:rPr b="0" lang="en-US" sz="2400" spc="-1" strike="noStrike">
                <a:solidFill>
                  <a:srgbClr val="000000"/>
                </a:solidFill>
                <a:latin typeface="Arial"/>
              </a:rPr>
              <a:t> debug mode (execute arbitrary commands such as copying worm to another machine)</a:t>
            </a:r>
            <a:endParaRPr b="0" lang="en-US" sz="24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tionary of 432 frequently used passwords to login and remotely execute commands via </a:t>
            </a:r>
            <a:r>
              <a:rPr b="0" lang="en-US" sz="2400" spc="-1" strike="noStrike">
                <a:solidFill>
                  <a:srgbClr val="000000"/>
                </a:solidFill>
                <a:latin typeface="Courier New"/>
              </a:rPr>
              <a:t>rexec</a:t>
            </a:r>
            <a:r>
              <a:rPr b="0" lang="en-US" sz="2400" spc="-1" strike="noStrike">
                <a:solidFill>
                  <a:srgbClr val="000000"/>
                </a:solidFill>
                <a:latin typeface="Arial"/>
              </a:rPr>
              <a:t>, </a:t>
            </a:r>
            <a:r>
              <a:rPr b="0" lang="en-US" sz="2400" spc="-1" strike="noStrike">
                <a:solidFill>
                  <a:srgbClr val="000000"/>
                </a:solidFill>
                <a:latin typeface="Courier New"/>
              </a:rPr>
              <a:t>rsh</a:t>
            </a:r>
            <a:endParaRPr b="0" lang="en-US" sz="2400" spc="-1" strike="noStrike">
              <a:solidFill>
                <a:srgbClr val="000000"/>
              </a:solidFill>
              <a:latin typeface="Arial"/>
            </a:endParaRPr>
          </a:p>
          <a:p>
            <a:pPr lvl="2" marL="10742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2. The Morris Worm: </a:t>
            </a:r>
            <a:br>
              <a:rPr sz="4400"/>
            </a:br>
            <a:r>
              <a:rPr b="0" lang="en-US" sz="4400" spc="-1" strike="noStrike">
                <a:solidFill>
                  <a:srgbClr val="000000"/>
                </a:solidFill>
                <a:latin typeface="Arial"/>
              </a:rPr>
              <a:t>What We Learned</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426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ty is good: Homogenity of OSes on network -&gt; attacker can exploit vulnerabilities common to most machin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programs more vulnerable to attack</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ndmail</a:t>
            </a:r>
            <a:r>
              <a:rPr b="0" lang="en-US" sz="2400" spc="-1" strike="noStrike">
                <a:solidFill>
                  <a:srgbClr val="000000"/>
                </a:solidFill>
                <a:latin typeface="Arial"/>
              </a:rPr>
              <a:t> was large, more bug-pron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ngerd</a:t>
            </a:r>
            <a:r>
              <a:rPr b="0" lang="en-US" sz="2400" spc="-1" strike="noStrike">
                <a:solidFill>
                  <a:srgbClr val="000000"/>
                </a:solidFill>
                <a:latin typeface="Arial"/>
              </a:rPr>
              <a:t> was small, but still buggy</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ing features limits holes: </a:t>
            </a:r>
            <a:r>
              <a:rPr b="0" lang="en-US" sz="2800" spc="-1" strike="noStrike">
                <a:solidFill>
                  <a:srgbClr val="000000"/>
                </a:solidFill>
                <a:latin typeface="Courier New"/>
              </a:rPr>
              <a:t>sendmail</a:t>
            </a:r>
            <a:r>
              <a:rPr b="0" lang="en-US" sz="2800" spc="-1" strike="noStrike">
                <a:solidFill>
                  <a:srgbClr val="000000"/>
                </a:solidFill>
                <a:latin typeface="Arial"/>
              </a:rPr>
              <a:t> debug feature should have been turned off</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should choose good passwords: dictionary attack would have been harder</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3. The Creation of CERT</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Emergency Response Team (CERT) created due to damage and disruption caused by Morris w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ecome a leading center on worm activity and software vulnerability announcem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s awareness bout cyber-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4. The Code Red Worm (1)</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ited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IIS web server buffer overflow</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dexing server” feature: randomly scanned IP addresses to connect to other IIS server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 rapidly: &gt; 2,000 hosts/mi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ded automated detecti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able more easily by humans than scanne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only in memory, no disk write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ced home page of infected ser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4. The Code Red Worm (2)</a:t>
            </a:r>
            <a:endParaRPr b="0" lang="en-US" sz="4400" spc="-1" strike="noStrike">
              <a:solidFill>
                <a:srgbClr val="000000"/>
              </a:solidFill>
              <a:latin typeface="Arial"/>
            </a:endParaRPr>
          </a:p>
        </p:txBody>
      </p:sp>
      <p:pic>
        <p:nvPicPr>
          <p:cNvPr id="130" name="" descr=""/>
          <p:cNvPicPr/>
          <p:nvPr/>
        </p:nvPicPr>
        <p:blipFill>
          <a:blip r:embed="rId1"/>
          <a:stretch/>
        </p:blipFill>
        <p:spPr>
          <a:xfrm>
            <a:off x="2338560" y="1654200"/>
            <a:ext cx="6175080" cy="4956120"/>
          </a:xfrm>
          <a:prstGeom prst="rect">
            <a:avLst/>
          </a:prstGeom>
          <a:ln w="0">
            <a:noFill/>
          </a:ln>
        </p:spPr>
      </p:pic>
      <p:sp>
        <p:nvSpPr>
          <p:cNvPr id="131" name=""/>
          <p:cNvSpPr/>
          <p:nvPr/>
        </p:nvSpPr>
        <p:spPr>
          <a:xfrm>
            <a:off x="216000" y="3514680"/>
            <a:ext cx="17492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Web server defac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Code</a:t>
            </a:r>
            <a:r>
              <a:rPr b="0" i="1" lang="en-US" sz="2000" spc="-1" strike="noStrike">
                <a:solidFill>
                  <a:srgbClr val="000000"/>
                </a:solidFill>
                <a:latin typeface="Tahoma"/>
              </a:rPr>
              <a:t> </a:t>
            </a:r>
            <a:r>
              <a:rPr b="0" i="1" lang="en-US" sz="2000" spc="-1" strike="noStrike">
                <a:solidFill>
                  <a:srgbClr val="ff0000"/>
                </a:solidFill>
                <a:latin typeface="Tahoma"/>
              </a:rPr>
              <a:t>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03:29Z</dcterms:modified>
  <cp:revision>3060</cp:revision>
  <dc:subject/>
  <dc:title>Introduction to Computer and Communications Security</dc:title>
</cp:coreProperties>
</file>